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60701-C039-4142-B556-35FEE9360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B48A0-D4C8-444F-9CF7-D4777EFC5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82A9-C13A-418B-A555-B1875C4E7A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8B096-766A-4D2E-8479-B68E034C4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3391E-5081-44BF-AFA9-A253864AE7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2A86C-5FF8-4352-A770-89AAACBBE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F2EEA-161B-433E-AE34-3802E682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B3C14-839F-4990-B485-3FD56144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4A881-F864-4265-B404-1E955413A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29F95-F9FD-44BD-98DB-02D2722B54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ED33E2-EDA5-4AA9-A248-4605B8EB9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A0EF4-86AC-4096-B0D2-8DCA7D174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BA297-A061-4AE6-B1B8-5D99F8F56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9B01D-E804-4F8A-B7EB-A218F77AB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85F5-40B0-4CB6-92F5-6BA1D4DC5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07CCD-95BE-4587-8F34-FE18C6DE99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6195ED-C5CF-4C8A-A3D1-F87F84987F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86013-937E-49AE-8820-3A5547412B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5C9F-D644-449A-99B9-1201B13D1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F03E0-F4EF-4406-A689-7E2E1A1728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533160"/>
            <a:ext cx="8163000" cy="505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48A9-F07B-4AC4-86D0-D04A1F20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7839-A970-467D-BC75-8B3A683C5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AD0E-3FBF-4828-9173-07B13FE71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3789-03AE-4DC0-975E-A5008655F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Rectangle 35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Rectangle 36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Rectangle 37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Rectangle 38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Rectangle 39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Rectangle 40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Rectangle 41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Rectangle 42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Rectangle 43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Rectangle 44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Rectangle 45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Rectangle 46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Rectangle 47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Rectangle 48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9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Rectangle 50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Rectangle 51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52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Rectangle 53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54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55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56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57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Rectangle 58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Rectangle 59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Rectangle 60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61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62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63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64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ECCC84-B323-414C-A3A3-66708CB67C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026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Group 1027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Rectangle 1028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Rectangle 1029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Rectangle 1030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1031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Rectangle 1032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Rectangle 1033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Rectangle 1034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Rectangle 1035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Rectangle 1036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Rectangle 1037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Rectangle 1038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Rectangle 1039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1040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1041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1042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43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044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045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046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047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048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1049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1050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1051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1052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1053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1054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1055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Rectangle 1056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Rectangle 1057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Rectangle 1058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Rectangle 1059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Rectangle 1060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Rectangle 1061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Rectangle 1062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Rectangle 1063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Rectangle 1064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Rectangle 1065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Rectangle 1066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Rectangle 1067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Rectangle 1068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Rectangle 1069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Rectangle 1070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Rectangle 1071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Rectangle 1072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Rectangle 1073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Rectangle 1074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Rectangle 1075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Rectangle 1076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Rectangle 1077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Rectangle 1078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Rectangle 1079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Rectangle 1080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Rectangle 1081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Rectangle 1082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Rectangle 1083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Rectangle 1084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Rectangle 1085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Rectangle 1086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Rectangle 1087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Rectangle 1088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ffff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Rectangle 1089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Rectangle 1090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spcBef>
                <a:spcPts val="799"/>
              </a:spcBef>
              <a:buClr>
                <a:srgbClr val="9a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28520" indent="-205560">
              <a:spcBef>
                <a:spcPts val="799"/>
              </a:spcBef>
              <a:buClr>
                <a:srgbClr val="003366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440000" indent="-205560">
              <a:spcBef>
                <a:spcPts val="799"/>
              </a:spcBef>
              <a:buClr>
                <a:srgbClr val="336699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SzPct val="85000"/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3F870-0B8A-4EBE-9070-98632A53CB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4" descr=""/>
          <p:cNvPicPr/>
          <p:nvPr/>
        </p:nvPicPr>
        <p:blipFill>
          <a:blip r:embed="rId1"/>
          <a:stretch/>
        </p:blipFill>
        <p:spPr>
          <a:xfrm>
            <a:off x="304920" y="0"/>
            <a:ext cx="8534160" cy="6807240"/>
          </a:xfrm>
          <a:prstGeom prst="rect">
            <a:avLst/>
          </a:prstGeom>
          <a:ln w="0">
            <a:noFill/>
          </a:ln>
        </p:spPr>
      </p:pic>
      <p:sp>
        <p:nvSpPr>
          <p:cNvPr id="211" name="Text Box 5"/>
          <p:cNvSpPr/>
          <p:nvPr/>
        </p:nvSpPr>
        <p:spPr>
          <a:xfrm>
            <a:off x="762120" y="6172200"/>
            <a:ext cx="647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omen Working In Uta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andard Parachute Compan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subTitle"/>
          </p:nvPr>
        </p:nvSpPr>
        <p:spPr>
          <a:xfrm>
            <a:off x="5316480" y="2209680"/>
            <a:ext cx="382752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Manti they manufactured parachutes until after the wa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4" descr=""/>
          <p:cNvPicPr/>
          <p:nvPr/>
        </p:nvPicPr>
        <p:blipFill>
          <a:blip r:embed="rId1"/>
          <a:stretch/>
        </p:blipFill>
        <p:spPr>
          <a:xfrm>
            <a:off x="533520" y="1828800"/>
            <a:ext cx="4486320" cy="350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828440" y="2590920"/>
            <a:ext cx="44370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 was part of the war effort more than most states. These facilities brought jobs to Utahans as well as PROSPER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hy Utah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was inland, from the coasts so saf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open spaces for trai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good transportation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is rich in natural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had a well-educated labor for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tah already had defense facil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Navajo Code-talkers</a:t>
            </a: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	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mained a secret till 1980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d the Navajo language to pass inform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y code the Japanese couldn’t break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71200" y="533160"/>
            <a:ext cx="8163000" cy="1090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POWs in UTAH!!!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erman and Italian POWs were sent to Ogd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le in camp they constructed, repaired building, worked in warehouses, prepared food in kitchens, farmed, built ski ru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Ogden Arsenal 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3" name="Picture 4" descr=""/>
          <p:cNvPicPr/>
          <p:nvPr/>
        </p:nvPicPr>
        <p:blipFill>
          <a:blip r:embed="rId1"/>
          <a:stretch/>
        </p:blipFill>
        <p:spPr>
          <a:xfrm>
            <a:off x="762120" y="990720"/>
            <a:ext cx="7086600" cy="556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ubTitle"/>
          </p:nvPr>
        </p:nvSpPr>
        <p:spPr>
          <a:xfrm>
            <a:off x="4343040" y="609120"/>
            <a:ext cx="4437000" cy="544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igned as a reserve depo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ut with the war it turned into a factory of war ars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omb casings and black pow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431784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761760" y="-22896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Hill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217" name="Picture 5" descr=""/>
          <p:cNvPicPr/>
          <p:nvPr/>
        </p:nvPicPr>
        <p:blipFill>
          <a:blip r:embed="rId1"/>
          <a:stretch/>
        </p:blipFill>
        <p:spPr>
          <a:xfrm>
            <a:off x="914400" y="841320"/>
            <a:ext cx="7620120" cy="601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020840" y="380880"/>
            <a:ext cx="4437000" cy="559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manufacturing and storage facil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ir Corps sent damaged, broken, or defective airplanes to be repair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4" descr=""/>
          <p:cNvPicPr/>
          <p:nvPr/>
        </p:nvPicPr>
        <p:blipFill>
          <a:blip r:embed="rId1"/>
          <a:stretch/>
        </p:blipFill>
        <p:spPr>
          <a:xfrm>
            <a:off x="0" y="1523880"/>
            <a:ext cx="3809880" cy="264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1447560" y="4648320"/>
            <a:ext cx="647676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rved as a garrison- air corps came to protect and train for new jobs- SPECIFICALLY PILO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4" descr=""/>
          <p:cNvPicPr/>
          <p:nvPr/>
        </p:nvPicPr>
        <p:blipFill>
          <a:blip r:embed="rId1"/>
          <a:stretch/>
        </p:blipFill>
        <p:spPr>
          <a:xfrm>
            <a:off x="914400" y="304920"/>
            <a:ext cx="7709040" cy="415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torage Facil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723920" y="1676160"/>
            <a:ext cx="3751560" cy="41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ored bombs and ammuni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t Lake City, Ogden, Clearfield, and Tooe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4" name="Picture 1028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41936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-360"/>
            <a:ext cx="767880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endover  Air Force Bas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subTitle"/>
          </p:nvPr>
        </p:nvSpPr>
        <p:spPr>
          <a:xfrm>
            <a:off x="6629040" y="2666880"/>
            <a:ext cx="198108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ined the pilots who dropped the atomic bom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4" descr=""/>
          <p:cNvPicPr/>
          <p:nvPr/>
        </p:nvPicPr>
        <p:blipFill>
          <a:blip r:embed="rId1"/>
          <a:stretch/>
        </p:blipFill>
        <p:spPr>
          <a:xfrm>
            <a:off x="457200" y="1727280"/>
            <a:ext cx="576576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678440" cy="10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Dugway Proving Grounds</a:t>
            </a:r>
            <a:br>
              <a:rPr sz="4400"/>
            </a:b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nd Deseret Chemical Depo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020840" y="2860560"/>
            <a:ext cx="44370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led chemical warfare materi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" name="Picture 4" descr=""/>
          <p:cNvPicPr/>
          <p:nvPr/>
        </p:nvPicPr>
        <p:blipFill>
          <a:blip r:embed="rId1"/>
          <a:stretch/>
        </p:blipFill>
        <p:spPr>
          <a:xfrm>
            <a:off x="609480" y="2133720"/>
            <a:ext cx="3170520" cy="3962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8T04:26:18Z</dcterms:created>
  <dc:creator>PSD</dc:creator>
  <dc:description/>
  <dc:language>en-US</dc:language>
  <cp:lastModifiedBy>InstructorCF</cp:lastModifiedBy>
  <cp:lastPrinted>2008-01-31T18:20:55Z</cp:lastPrinted>
  <dcterms:modified xsi:type="dcterms:W3CDTF">2009-04-29T16:11:08Z</dcterms:modified>
  <cp:revision>4</cp:revision>
  <dc:subject/>
  <dc:title>PowerPoint Presentation</dc:title>
</cp:coreProperties>
</file>